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5EA-84C2-4608-84C0-4C9C4D67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CC2-920A-4899-BB6D-12348B28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145-356A-4F79-9E51-BD61732B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0F6-B07C-48A6-BAA3-B2F220C5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4EA0-7FDD-423A-A36E-0EE2B56F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B5D3-1102-4141-BBFF-30B9E72F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3A6C-B7D3-4FA5-AE53-FDE0007A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0343-6DF2-47AC-9506-75F91675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0F3E-3D5C-4D2D-A552-D235A1AD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5435-5CD2-4186-A063-A7E10EAF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AE71-03D9-41F5-B398-14F8DF9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618-795A-4A85-AAF5-67786B0E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2B52-7832-43F9-9EB7-4464A9F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717E-8694-4939-8616-2CEDF158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ECF3-5061-4809-BFE0-0760AF9E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1012-8FC5-4C7E-91A0-FBA7D8D7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6E23-7E71-45F8-9EE6-A356C163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01B4-B7F3-4689-8DFE-94448184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7C1A-0106-40A4-AB41-221EDF89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1E8B0-6763-4309-9B4C-074EA9CA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6D6F-7C83-4F9D-BA9F-C49F8B25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1DAC-5316-43C1-A582-0949A191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91A-1852-4BB8-813D-E1BCC173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A96E4-6D4A-4145-B8ED-C96AAA10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528D-02B0-47FF-B855-6F394C74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79E5-DD3D-434B-8DC8-81F0DA32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C557-5FA6-4E62-ABBD-64071217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1A88C-8A0F-4544-A96A-3699981A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85C3-1D79-4F24-A42C-D881D6F6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831A-4818-410E-B223-2CDB1A94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098C3-948A-454C-B598-BF3B4272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401B5-F098-4B9D-AFF1-B202EBC8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87600-D6FA-430C-81DB-A62FB053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8D2-0741-491C-8D53-C5E0114C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62C6-A556-4A95-A388-CFD8236F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A37B-F860-40FC-A486-8AC756B6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A1BBE-07AB-4D88-A757-8CF0E77C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AE08-F1D7-4243-A892-D24F627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7310-E94F-4D7E-B8BC-2A61AB2B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840B6-D7A9-46F4-A554-1FB83E12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75529-72AE-4067-BF2A-9B519E8B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27A94-31D4-4974-AD79-41951127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748C6-A7ED-4DAA-94DF-3F09EB24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B4F-8043-485F-99E1-7B9179BE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9DF-F4CA-4C76-86B2-6DCDA6A6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225-F306-4359-B460-862385B0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BA5-E42B-4757-A50B-0D5AA746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376-5F93-4B02-88DF-03F2B019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8BC7-C662-4AC8-B058-92182B76DA9D}" type="slidenum"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ED4A-E57F-42CD-AF4A-A4BEB703439F}" type="slidenum"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DEAE-263B-42A0-99B7-45913FB1DDB0}" type="slidenum"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4E29-A4DC-49FD-A11D-743A18D3C6C3}" type="slidenum"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85920"/>
            <a:ext cx="854712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1295280" y="34290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hapter 23 and Chapter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609480" y="1523880"/>
            <a:ext cx="7925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ross Domestic Product (GD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he sum of the money values of all final goods and services produced in the domestic economy during a specific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s: organized and reported market activity, “bad produ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NOT a measure of the nation’s well-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es not include: leisure time, ecological costs, intermediate goods, illegal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minal GDP: inflation distorts the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GDP: more accurate because inflation has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362320" y="2286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GDP Defin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-15228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1523880" y="22860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Shifts in AD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533520" y="152388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ggregate Demand Cu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the AD curve shifts right (AD increases), Price Levels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the AD curve shifts left (AD decreases),Price Levels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www.bized.co.uk/virtual/bank/images/asvert.gif"/>
          <p:cNvPicPr/>
          <p:nvPr/>
        </p:nvPicPr>
        <p:blipFill>
          <a:blip r:embed="rId1"/>
          <a:stretch/>
        </p:blipFill>
        <p:spPr>
          <a:xfrm>
            <a:off x="2590920" y="3886200"/>
            <a:ext cx="30956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0" y="420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eynesian or Stabilization to Fight Inf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380880" y="1752480"/>
            <a:ext cx="8458200" cy="52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tabilization polic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programs used by the government to prevent or at least reduce recessions and control inf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ight infl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vernment can decrease spending (G) to decrease 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increase taxes so people have less disposable income and AD f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decrease transfer payments, which would be taking away some of the income and bringing dow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tagf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762120" y="1371600"/>
            <a:ext cx="7696080" cy="51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nstantia"/>
              </a:rPr>
              <a:t>Stagflation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is inflation that occurs while the economy is growing slow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tagflation comes from supply-side shock or excessive demand and an inflationary g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When GDP falls and prices rise (inflation), stagflation occu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Most notably occurred 1973-1980 with the O.P.E.C cri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ffect of Steep AS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380880" y="1371600"/>
            <a:ext cx="8458200" cy="60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When the AS curve is in the vertical rang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trong economic activity, high levels of out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low unemployment, high capacity uti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the vertical range, to increase production, costs will rise considerably because resources and labor are sca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f production rises, we will have a relatively big </a:t>
            </a:r>
            <a:r>
              <a:rPr b="0" lang="en-US" sz="3000" spc="-1" strike="noStrike">
                <a:solidFill>
                  <a:srgbClr val="ff0000"/>
                </a:solidFill>
                <a:latin typeface="Constantia"/>
              </a:rPr>
              <a:t>increase in Pric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otential G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914400" y="1066680"/>
            <a:ext cx="777240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at the real GDP would be if the economy was at full employment, with resources and labor fully uti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f economy is below PGDP there is a re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f economy is above PGDP there is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http://econ.la.psu.edu/~dshapiro/l16_f02.jpg"/>
          <p:cNvPicPr/>
          <p:nvPr/>
        </p:nvPicPr>
        <p:blipFill>
          <a:blip r:embed="rId1"/>
          <a:stretch/>
        </p:blipFill>
        <p:spPr>
          <a:xfrm>
            <a:off x="2895480" y="3533760"/>
            <a:ext cx="25909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est Way to Measure Inf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0" y="1371600"/>
            <a:ext cx="91440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tween CPI (Consumer Price Index) and GDP Deflat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DP deflator is a better indication of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s is because the GDP deflator is based on a broader market basket (including every item in the G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CPI is based on a budget of a typical urba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ice Index in Given Year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(Cost of Market Basket in Given Yea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 10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(Cost of Market Basket in Base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0" y="4800600"/>
            <a:ext cx="914400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al GDP 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Nominal GDP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x 1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DP Defl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1"/>
          <p:cNvSpPr/>
          <p:nvPr/>
        </p:nvSpPr>
        <p:spPr>
          <a:xfrm>
            <a:off x="0" y="0"/>
            <a:ext cx="190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age Trends in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762120" y="2057400"/>
            <a:ext cx="7696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prices rise wages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uring inflation wages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prices drop, wages decrease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 Generally wages rise faster than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58:11Z</dcterms:created>
  <dc:creator>sth_user</dc:creator>
  <dc:description/>
  <dc:language>en-US</dc:language>
  <cp:lastModifiedBy>HP Authorized Customer</cp:lastModifiedBy>
  <dcterms:modified xsi:type="dcterms:W3CDTF">2009-01-27T22:02:38Z</dcterms:modified>
  <cp:revision>16</cp:revision>
  <dc:subject/>
  <dc:title>Unit 2</dc:title>
</cp:coreProperties>
</file>